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A7B3-AE58-4720-A21E-5CF395B90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3E0D-E382-4AC0-A847-AD68CBD3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1E95-4E44-4696-A908-CDF3C472D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B551-2293-4D87-9B12-861306285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6AD9-3204-4898-A717-94AAC695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9557-4B25-4059-9EEB-207E7D48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DD78-E1EC-4D43-AED9-83C26348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FAD5-1235-4010-B72E-F7FA2A70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58F0-894F-44AD-A5DB-59EBE0DC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EC11-B462-44B6-B6C2-BAF9036D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0612-FA84-4F23-BF12-80693A68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9CBC-E645-4046-876A-FDAB3D15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031759-E2D3-46C5-B486-6CFD960A1D2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" descr="Davidson_13e_Figure 15.1.jpg"/>
          <p:cNvPicPr/>
          <p:nvPr/>
        </p:nvPicPr>
        <p:blipFill>
          <a:blip r:embed="rId1"/>
          <a:stretch/>
        </p:blipFill>
        <p:spPr>
          <a:xfrm>
            <a:off x="1415880" y="0"/>
            <a:ext cx="631008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0</Words>
  <Paragraphs>0</Paragraphs>
  <Company>C &amp; M Digitals (P) Ltd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09:44:31Z</dcterms:created>
  <dc:creator>Administrator</dc:creator>
  <dc:description/>
  <dc:language>en-US</dc:language>
  <cp:lastModifiedBy>Administrator</cp:lastModifiedBy>
  <dcterms:modified xsi:type="dcterms:W3CDTF">2012-04-04T09:44:42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</vt:r8>
  </property>
</Properties>
</file>